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005-C3F2-40E9-B216-B7BD3AAC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B1D-022B-4592-975F-6B8F586B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D3F-A2E4-4D81-8CA2-3CB91B95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286-4D1B-43AE-87CE-AF3F8204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E4E51-4A44-43EB-AE4E-222D8BB3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0D6AF-8B13-4D5E-89DF-736594D8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3E883-3D50-4235-A8E6-E6C1A1D9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3C193-4A55-44DB-96AB-26678ECC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A18C8-ED36-420B-8EC2-F85007BF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7A8C1-4F4A-4D62-8ADC-EE99F34E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AFA9B-022F-4B18-A329-B0B383C6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6FE-F165-481C-833B-CBA8E8BF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A7C66-83CC-4D87-95E2-16EE536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C3927-0CDF-4500-8324-6B159723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C1E65-EA36-4418-B8FE-7276CEE5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CF051-4DBE-4C4C-8EC0-95FB2C59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E2286-24AE-4487-9B51-44FFB986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C6F-49E4-42BB-A8C8-D8EE32FF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B6F-0A6C-4B7B-94FC-05052937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991-ACCD-4774-93F1-DE7F4CFB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E97-48C3-4FE3-8C2F-F758A14E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2F8-901B-472E-A788-F043571B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0D7-0050-4C71-A1DA-BED44442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0E3-232E-44D4-8B08-9E6C7FFB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A1B4-0D62-4F2A-AAAA-156651C4498B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5AD-C654-47ED-908A-F66664F9F7BB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2/29/Regina_Elisabeta_-_Foto01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VALUAR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ITIA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04760" y="3967200"/>
            <a:ext cx="54990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f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RCESCU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ISTINA M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r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ste rolul Monarhiei in Romania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24080" y="1628640"/>
            <a:ext cx="2241360" cy="210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Fişier:Regina Elisabeta - Foto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557360"/>
            <a:ext cx="2160720" cy="215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24080" y="4005360"/>
            <a:ext cx="2311200" cy="1958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724360" y="4002120"/>
            <a:ext cx="230688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e stim despre Romania pana in anul 1914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4920" y="765000"/>
          <a:ext cx="9109080" cy="6093000"/>
        </p:xfrm>
        <a:graphic>
          <a:graphicData uri="http://schemas.openxmlformats.org/drawingml/2006/table">
            <a:tbl>
              <a:tblPr/>
              <a:tblGrid>
                <a:gridCol w="2941560"/>
                <a:gridCol w="3056040"/>
                <a:gridCol w="31114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 stiu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 vreau sa stiu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 am inva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.I.Cuza este unificatorul Tarii Romanesti si Moldov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mnitor al Romani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n 1862 A.I.Cuza va colabora cu un singur guvern si o singura Adunare legislati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.I.Cuza si M. Kogalniceanu reformeaza Roma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mania nu este stat independ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le puteri recunoscusera unirea si dubla alegere doar pe timpul domniei lui A.I.Cuz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manii au acceptat la conducere un Print strain pentru a mentine unitatea statulu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1866 este adopteta Constitut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1877-1878 Romania si-a cucerit independenta de sta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le puteri au recunoscut Independenta si unirea Dobrogei cu Romania in cadrul Congresului de la Berl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 ce a participat Romania la primul razboi mondial 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e a fost rolul monarhiei in realizarea statului national unitar roma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e a fost rolul Romaniei in infrangerea Puterilor Centrale 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e conditii s- a format statul national unitar roma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influenta a avut familia regala in dezvoltare culturii romanest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rol au palatele:Bran,Balcic in viata familiei regale si a romanilor in general 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milia regala s-a implicat in dezvoltarea econ.,sociala si culturala a Romani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mania participa la primul razboi mondial pentru a-si realiza unitatea stata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8-Marea Unire-Ferdinand I este “partas” la realizarea istor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a I patroneaza Crucea Rosi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stine financiar personalitati din lumea culturala si artistica din Roma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truieste palatul de la Balcic(S.Dobrogei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ragostita de Balcic,regina cere ca la moartea ei inima sa-I fie ingropata la Balcic,iar trupul la Curtea de Arges alaturi de sotul ei,lucru care s-a si intampla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sociati termenii din stanga cu imaginile din partea dreap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2262240"/>
            <a:ext cx="4044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ol I de Hohenzoll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pendenta Romani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rdinand I de Hohenzoll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marea statului national ro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583240" y="1905120"/>
            <a:ext cx="2162160" cy="1987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583240" y="4032360"/>
            <a:ext cx="21715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9:20:00Z</dcterms:created>
  <dc:creator>User</dc:creator>
  <dc:description/>
  <dc:language>en-US</dc:language>
  <cp:lastModifiedBy>User</cp:lastModifiedBy>
  <dcterms:modified xsi:type="dcterms:W3CDTF">2010-02-07T17:59:49Z</dcterms:modified>
  <cp:revision>11</cp:revision>
  <dc:subject/>
  <dc:title>EVALUARE INITIALA </dc:title>
</cp:coreProperties>
</file>